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17EB-8BCE-412A-B593-6BC55A906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1193-879D-492E-A6A6-740A2A10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F084-E930-4AF0-B912-4E892268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1A63-367E-499A-85B5-BEE165F8C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6AC8-AE70-4610-A41B-43FCDCB1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F796-EE64-4D18-9160-C8F252F8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045B-804F-4BB0-B95C-690F5D62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158D-95E5-4329-BB05-DCE25C62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50D8-DCFE-422F-9C60-E2C530A7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F214-25F4-4E3F-B20F-326A8794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1B3C-0B08-4F13-8495-77230326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199B-C92D-40B2-A864-CA4E6873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0F22-EFB8-4CB6-A63E-71283BD4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6240-DA44-4C3F-B8B8-24D7EFB8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240F-0E6A-47FA-8772-51D77C29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00E1-F258-46C9-B8AD-1B07514C2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94EE-A8C9-4E09-A859-50672C11D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3DAD3-FF2C-44D0-982B-47737F48F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AB401-752B-4C88-9147-BB7A8841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22FB9-FA7F-4333-9755-A493BED5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7D0E0-FFF1-4A96-B477-2F4DA190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7625E-BBE5-40C8-87F6-8CCF0256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2BD5-DB11-4BE1-A9A6-54BA5BF4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DAF86-551A-4657-985F-8372444C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9E30E-43FC-4983-A10F-C323CC27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18548-349A-4EA8-BC43-B691CB7E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AD930-29B2-403C-9884-4A29C011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10195-0FC4-4575-8170-49FAE00B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430FE-8F80-4E16-B0F4-F72AA6C55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979D5-2424-4747-A93B-F4F1A9FF5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60A17-504C-4302-9D49-5824D00F8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77EB1-7407-4483-9BC1-CEE8A0BD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45E65-29D3-4F90-94D4-5F2BC091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C859-A72C-472F-A8A7-C84384C1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BABA3-275E-4C83-8B8D-05B35CB2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58DB3-0D7C-4468-BD25-B4A301F2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468B3-67C7-4654-BB5F-55E67AF5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8CFBB-568F-4DCF-88C4-785A0C4B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E88B8-543C-420C-8407-21560CC8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77F24-BE55-45E4-BFD2-05BE901D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069C2-BBFF-4DDB-ABD0-3641ECCB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A58E2-2140-453D-A13C-6A64BE24F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20DFE-99C0-484F-B46C-EC4310A3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11E6-D53C-4EF5-BDB6-8CA8D585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F557-634A-4C8F-8788-D5C2ECA7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0D64-D374-4168-B243-F99A6C4C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EB34-6FAF-431B-AED5-AB2A9A8C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1866-A441-49E9-800E-FB44562C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3C18-0CFC-4A5F-B9DA-1D0C0813761A}" type="slidenum">
              <a:rPr b="0" lang="es-PE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B9F6-1817-48BF-AFE5-38311FB11BD9}" type="slidenum">
              <a:rPr b="0" lang="es-PE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FBAE-2CD7-4A2E-9101-854BABB23C5B}" type="slidenum">
              <a:rPr b="0" lang="es-PE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9A76-E314-4C54-8388-ECBD839B890D}" type="slidenum">
              <a:rPr b="0" lang="es-PE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6144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3 Rectángulo"/>
          <p:cNvSpPr/>
          <p:nvPr/>
        </p:nvSpPr>
        <p:spPr>
          <a:xfrm>
            <a:off x="4541760" y="6202440"/>
            <a:ext cx="393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Constantia"/>
              </a:rPr>
              <a:t>http://iebmaranatha.blogspot.com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143000" y="1357200"/>
          <a:ext cx="6858000" cy="4714920"/>
        </p:xfrm>
        <a:graphic>
          <a:graphicData uri="http://schemas.openxmlformats.org/drawingml/2006/table">
            <a:tbl>
              <a:tblPr/>
              <a:tblGrid>
                <a:gridCol w="3117960"/>
                <a:gridCol w="3740040"/>
              </a:tblGrid>
              <a:tr h="297000"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3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GLESIA EVANGELIGA BAUTISTA "MARANATHA"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524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7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00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EC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OMB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4  DE  MARZO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</a:t>
                      </a: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LILA HERNANDO DE DEL CASTIL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1  DE  ABRIL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</a:t>
                      </a: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IRGINIA PEDRAZA DE ESPINO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6  DE  MAY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</a:t>
                      </a: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ANCY SIFUENTES DE OTINI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3  DE  JUN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</a:t>
                      </a: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KAREN DEL CASTILLO DE LEDES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1  DE  JUL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</a:t>
                      </a: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OSA RIOS DE BRA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5  DE  AGOS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</a:t>
                      </a: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SABEL CAMARGO DE OCHO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2  DE  SETIEMB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</a:t>
                      </a: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SABEL QUIROGA DE YUMBA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7  DE  OCTUB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</a:t>
                      </a: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ESALIA CHIA DE FL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4  DE  NOVIEMB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</a:t>
                      </a: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ERCY DE PINA DE RAM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02  DE  DICIEMB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</a:t>
                      </a: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JULIA LOAYZA DE RENJIF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WordArt 2"/>
          <p:cNvSpPr txBox="1"/>
          <p:nvPr/>
        </p:nvSpPr>
        <p:spPr>
          <a:xfrm>
            <a:off x="1214280" y="604800"/>
            <a:ext cx="6648480" cy="60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RELACIÒN   DE   LA CENA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1T21:45:03Z</dcterms:created>
  <dc:creator>NANCY SIFUENTES</dc:creator>
  <dc:description/>
  <dc:language>en-US</dc:language>
  <cp:lastModifiedBy>NANCY SIFUENTES</cp:lastModifiedBy>
  <dcterms:modified xsi:type="dcterms:W3CDTF">2009-06-21T21:47:32Z</dcterms:modified>
  <cp:revision>1</cp:revision>
  <dc:subject/>
  <dc:title>Rol de Preparación de la Cena</dc:title>
</cp:coreProperties>
</file>