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AD65-10D2-4D26-A060-4D038C3A3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36ED-8405-4548-9FC1-11BFEE030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08AA-06E3-4763-9DE1-83F280531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2FAE-2A38-4B08-890A-E5B51D165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2F148-BACE-483D-A136-757DA60CC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6D20E-F453-424E-AEDB-FD04E5A7F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EABB6-464E-4A5A-985F-DA55FBB6B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ACE54-4A47-4785-9000-5CE543BEC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8CE72-FA60-4A9F-B978-298033A21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2BCD8-EA0B-4A52-AE25-4B5022751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E0C0C-A0E4-484B-AFA0-9D4F24FAD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3B32-E0C9-4FBD-8108-ED1774D6F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C428A-DDF0-4231-B3D3-3CBE2C53E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B6F77-F293-4211-B314-AA8120879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1F6ED-8421-4B54-94EF-8A9A6C723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3DEBD-69AB-4371-A38A-26F869568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855B5-682F-4533-B4DD-9517CCACE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A67EA-3966-4D04-941A-987F0292E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67A31-C6D5-423A-ACD1-A1B404047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9AA9F-DB87-4796-A743-FD59303CA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DE11F-380C-4C40-9782-0F3847A5C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722AB-1DFB-4DC6-A0A3-CF7D20444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A25E-CC08-43D1-B0B3-242913F2E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A5755-0540-462C-BD34-8BB194231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9BE21-3112-49D1-B734-936E082A9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583AB-5C24-446E-AE2E-F3833A9C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EFC7C-4254-4E14-A9E9-3EA7474F4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9855A-9C0C-4FF0-8B89-24DDD2FB8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0E488-77EC-4705-9956-91B777D2E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80936-3217-4904-8775-EC272AD4C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FC6382-D2B4-4E4D-9087-D1D310E18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E0B6B-5108-43BC-8189-A31C1876F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B118A-2EFB-4E8F-BEA7-67620798B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78FB-A85B-4550-BC24-482E6E623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E9252-C4CE-4844-A177-085E385BE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5D8DD-F4F2-4F40-82E5-F495A22D0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5377E-1AD4-42B9-A89D-5B707BF78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CD4CA-4A4D-4E60-A7EB-8D38E6A24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780F3-93D8-466D-92DE-97A4198D7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9F96B-5637-407D-9DC7-37CE24DC2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08A8B4-FACF-465D-A415-3FC140D84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33E91-E481-4686-BB4D-DCE46E49F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398C4-CEAB-4345-81C9-9DDBC9D3B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CF8C-334A-4779-8D4A-9E3F8B769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C116-C1F9-4127-BE33-12CB68FF8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4B61-F05D-41E5-9B00-AC6C9C0CA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16B8-CD91-4EF5-8CF0-3078162A0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4583-1E3B-4546-A9ED-067DA823E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92F32-DF18-4272-93F3-AC00372C2573}" type="slidenum">
              <a:rPr b="0" lang="es-PE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C7383-B066-41CF-B499-F741996D60DF}" type="slidenum">
              <a:rPr b="0" lang="es-PE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0DF60-57CC-4AA7-900C-99D851FFE16C}" type="slidenum">
              <a:rPr b="0" lang="es-PE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7C4B4-E850-4C01-A257-2567CFE789A7}" type="slidenum">
              <a:rPr b="0" lang="es-PE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1 Título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8461440" cy="2011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3 Rectángulo"/>
          <p:cNvSpPr/>
          <p:nvPr/>
        </p:nvSpPr>
        <p:spPr>
          <a:xfrm>
            <a:off x="4541760" y="6202440"/>
            <a:ext cx="393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Constantia"/>
              </a:rPr>
              <a:t>http://iebmaranatha.blogspot.com/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143000" y="1357200"/>
          <a:ext cx="6858000" cy="4714920"/>
        </p:xfrm>
        <a:graphic>
          <a:graphicData uri="http://schemas.openxmlformats.org/drawingml/2006/table">
            <a:tbl>
              <a:tblPr/>
              <a:tblGrid>
                <a:gridCol w="3117960"/>
                <a:gridCol w="3740040"/>
              </a:tblGrid>
              <a:tr h="297000"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3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GLESIA EVANGELIGA BAUTISTA "MARANATHA"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524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5280"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7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00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EC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NOMB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5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   </a:t>
                      </a:r>
                      <a:r>
                        <a:rPr b="0" lang="es-PE" sz="15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04  DE  MARZO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</a:t>
                      </a: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LILA HERNANDO DE DEL CASTILL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5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   </a:t>
                      </a:r>
                      <a:r>
                        <a:rPr b="0" lang="es-PE" sz="15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01  DE  ABRIL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</a:t>
                      </a: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VIRGINIA PEDRAZA DE ESPINOZ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5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   </a:t>
                      </a:r>
                      <a:r>
                        <a:rPr b="0" lang="es-PE" sz="15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06  DE  MAY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</a:t>
                      </a: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NANCY SIFUENTES DE OTINIA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5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   </a:t>
                      </a:r>
                      <a:r>
                        <a:rPr b="0" lang="es-PE" sz="15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03  DE  JUNI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</a:t>
                      </a: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KAREN DEL CASTILLO DE LEDES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5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   </a:t>
                      </a:r>
                      <a:r>
                        <a:rPr b="0" lang="es-PE" sz="15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01  DE  JULI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</a:t>
                      </a: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ROSA RIOS DE BRAV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5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   </a:t>
                      </a:r>
                      <a:r>
                        <a:rPr b="0" lang="es-PE" sz="15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05  DE  AGOS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</a:t>
                      </a: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SABEL CAMARGO DE OCHO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5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   </a:t>
                      </a:r>
                      <a:r>
                        <a:rPr b="0" lang="es-PE" sz="15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02  DE  SETIEMB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</a:t>
                      </a: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SABEL QUIROGA DE YUMBA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5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   </a:t>
                      </a:r>
                      <a:r>
                        <a:rPr b="0" lang="es-PE" sz="15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07  DE  OCTUB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</a:t>
                      </a: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TESALIA CHIA DE FLO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5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   </a:t>
                      </a:r>
                      <a:r>
                        <a:rPr b="0" lang="es-PE" sz="15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04  DE  NOVIEMB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</a:t>
                      </a: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MERCY DE PINA DE RAM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5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   </a:t>
                      </a:r>
                      <a:r>
                        <a:rPr b="0" lang="es-PE" sz="15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02  DE  DICIEMB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</a:t>
                      </a: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JULIA LOAYZA DE RENJIF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9" name="WordArt 2"/>
          <p:cNvSpPr txBox="1"/>
          <p:nvPr/>
        </p:nvSpPr>
        <p:spPr>
          <a:xfrm>
            <a:off x="1214280" y="604800"/>
            <a:ext cx="6648480" cy="609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RELACIÒN   DE   LA CENA</a:t>
            </a:r>
            <a:endParaRPr b="0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1T21:45:03Z</dcterms:created>
  <dc:creator>NANCY SIFUENTES</dc:creator>
  <dc:description/>
  <dc:language>en-US</dc:language>
  <cp:lastModifiedBy>NANCY SIFUENTES</cp:lastModifiedBy>
  <dcterms:modified xsi:type="dcterms:W3CDTF">2009-06-21T21:47:32Z</dcterms:modified>
  <cp:revision>1</cp:revision>
  <dc:subject/>
  <dc:title>Rol de Preparación de la Cena</dc:title>
</cp:coreProperties>
</file>