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18.gif" ContentType="image/gif"/>
  <Override PartName="/ppt/media/image17.gif" ContentType="image/gif"/>
  <Override PartName="/ppt/media/image15.gif" ContentType="image/gif"/>
  <Override PartName="/ppt/media/image14.gif" ContentType="image/gif"/>
  <Override PartName="/ppt/media/image9.gif" ContentType="image/gif"/>
  <Override PartName="/ppt/media/image13.gif" ContentType="image/gif"/>
  <Override PartName="/ppt/media/image2.gif" ContentType="image/gif"/>
  <Override PartName="/ppt/media/image3.gif" ContentType="image/gif"/>
  <Override PartName="/ppt/media/KennyG%20(musique)Melody.wav" ContentType="audio/x-wav"/>
  <Override PartName="/ppt/media/image16.gif" ContentType="image/gif"/>
  <Override PartName="/ppt/media/image4.png" ContentType="image/png"/>
  <Override PartName="/ppt/media/image1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9F10-1942-456E-BDCA-95F902F1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CF8F-FC32-488B-9D7C-69008710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CAAA-6302-4C71-9B4F-8B6CA073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8F56-F42F-4B3E-AB3E-1E9D4F53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7C53-AA78-4083-A597-0D646B5C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21EB-E320-482C-81D1-135F7A4B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A04D-87CF-4F48-BB87-C0AD9CEF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8B48-2227-4738-9B33-86C4F479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7D92-50F9-4C66-B373-85DDEC3C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8A3A-9C45-4DFE-86BD-6B26ABE1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06EC-58C3-41DC-9A5B-541C6C82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99B1-1721-4F25-A298-9481F300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46E2-03B6-4016-BAC0-BD6C3827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A23B-5273-4A74-8EEF-D47081CE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20DC-628A-42FE-B3FE-62C89C7F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C209-3863-4814-AD43-12CEBD82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8FCB-C8D7-4145-9DCC-20CF9CA5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15C51-D697-45A2-A1A4-7C18F1BA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C1BDE-F033-4212-A179-D8B39D58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2267B-72C2-4C80-9C2B-32F2EC1E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1279A-6143-4AB4-96BD-2E40FEA6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0A0BC-C389-44D5-9D80-88ECEEAA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D403-3C75-43EA-9F8A-FC4ECA39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729AF-CB5E-4C86-B581-32F427E7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E8047-76B1-4E09-94AB-F0A169B9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F006B-DE1A-410E-BE20-E51AD5C0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14577-22DF-452E-8DA6-908B284F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F60F2-E2D0-4E9B-8DA4-6BD83C4D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50EC2-EF83-4091-A0E4-65DFA352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746A8-BE97-4CBE-AC9A-78C23708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3C7-6F56-4888-BFCA-1B03C6C9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DA27-E8C1-4984-8EDE-74902B5A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42FB-CAFF-4E1D-BE0D-1EA56026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EA95-FECE-4091-BAFE-DD33B4BD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BA2C-1DD8-4411-ACCF-7D983198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F99C-0233-44F2-839B-B667CE1A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8114-B92C-42E3-BAB1-57A979528B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8d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8d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def6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EE76-4DF7-4CED-9337-9F2A9A7CD532}" type="slidenum">
              <a:rPr b="1" lang="fr-FR" sz="2600" spc="-1" strike="noStrike">
                <a:solidFill>
                  <a:srgbClr val="def6f1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8d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ef6f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6f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def6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10BD-F991-43C9-9C1A-2D8564A3ADE7}" type="slidenum">
              <a:rPr b="1" lang="fr-FR" sz="2600" spc="-1" strike="noStrike">
                <a:solidFill>
                  <a:srgbClr val="def6f1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KennyG%20(musique)Melody.wav"/><Relationship Id="rId5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hyperlink" Target="http://gifalapelle.site.voila.fr/objets/objets/140.gif" TargetMode="External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920" y="1341360"/>
            <a:ext cx="4967280" cy="1324080"/>
          </a:xfrm>
          <a:prstGeom prst="rect">
            <a:avLst/>
          </a:prstGeom>
          <a:solidFill>
            <a:srgbClr val="ffffff"/>
          </a:solidFill>
          <a:ln w="88920">
            <a:solidFill>
              <a:srgbClr val="0066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Monotype Corsiva"/>
              </a:rPr>
              <a:t>E.V.V.O</a:t>
            </a: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651640" y="2478240"/>
            <a:ext cx="2592360" cy="2073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300720" y="5373720"/>
            <a:ext cx="2183040" cy="576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3141720"/>
            <a:ext cx="2063880" cy="3716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084720" y="5950080"/>
            <a:ext cx="259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Monotype Corsiva"/>
              </a:rPr>
              <a:t>(Rustig in je eigen tempo doorklikken)</a:t>
            </a:r>
            <a:r>
              <a:rPr b="0" lang="nl-NL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6408720" cy="1143000"/>
          </a:xfrm>
          <a:prstGeom prst="rect">
            <a:avLst/>
          </a:prstGeom>
          <a:solidFill>
            <a:srgbClr val="ffff99"/>
          </a:solidFill>
          <a:ln w="889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fr-FR" sz="4800" spc="-1" strike="noStrike">
                <a:solidFill>
                  <a:srgbClr val="000000"/>
                </a:solidFill>
                <a:latin typeface="Monotype Corsiva"/>
              </a:rPr>
              <a:t>Wat is  </a:t>
            </a:r>
            <a:r>
              <a:rPr b="1" lang="fr-FR" sz="4800" spc="-1" strike="noStrike">
                <a:solidFill>
                  <a:srgbClr val="cc0000"/>
                </a:solidFill>
                <a:latin typeface="Monotype Corsiva"/>
              </a:rPr>
              <a:t>E</a:t>
            </a:r>
            <a:r>
              <a:rPr b="1" lang="fr-FR" sz="4800" spc="-1" strike="noStrike">
                <a:solidFill>
                  <a:srgbClr val="000000"/>
                </a:solidFill>
                <a:latin typeface="Monotype Corsiva"/>
              </a:rPr>
              <a:t>.</a:t>
            </a:r>
            <a:r>
              <a:rPr b="1" lang="fr-FR" sz="4800" spc="-1" strike="noStrike">
                <a:solidFill>
                  <a:srgbClr val="cc0000"/>
                </a:solidFill>
                <a:latin typeface="Monotype Corsiva"/>
              </a:rPr>
              <a:t>V</a:t>
            </a:r>
            <a:r>
              <a:rPr b="1" lang="fr-FR" sz="4800" spc="-1" strike="noStrike">
                <a:solidFill>
                  <a:srgbClr val="000000"/>
                </a:solidFill>
                <a:latin typeface="Monotype Corsiva"/>
              </a:rPr>
              <a:t>.</a:t>
            </a:r>
            <a:r>
              <a:rPr b="1" lang="fr-FR" sz="4800" spc="-1" strike="noStrike">
                <a:solidFill>
                  <a:srgbClr val="cc0000"/>
                </a:solidFill>
                <a:latin typeface="Monotype Corsiva"/>
              </a:rPr>
              <a:t>V</a:t>
            </a:r>
            <a:r>
              <a:rPr b="1" lang="fr-FR" sz="4800" spc="-1" strike="noStrike">
                <a:solidFill>
                  <a:srgbClr val="000000"/>
                </a:solidFill>
                <a:latin typeface="Monotype Corsiva"/>
              </a:rPr>
              <a:t>.</a:t>
            </a:r>
            <a:r>
              <a:rPr b="1" lang="fr-FR" sz="4800" spc="-1" strike="noStrike">
                <a:solidFill>
                  <a:srgbClr val="cc0000"/>
                </a:solidFill>
                <a:latin typeface="Monotype Corsiva"/>
              </a:rPr>
              <a:t>O</a:t>
            </a:r>
            <a:r>
              <a:rPr b="1" lang="fr-FR" sz="4800" spc="-1" strike="noStrike">
                <a:solidFill>
                  <a:srgbClr val="000000"/>
                </a:solidFill>
                <a:latin typeface="Monotype Corsiva"/>
              </a:rPr>
              <a:t>.?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1356120"/>
            <a:ext cx="698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Monotype Corsiva"/>
              </a:rPr>
              <a:t>Ik vermoed dat veel veertigplusser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Monotype Corsiva"/>
              </a:rPr>
              <a:t>zich hierin zullen herkennen … zoals ik zelf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204840" y="3357000"/>
            <a:ext cx="97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Monotype Corsiva"/>
              </a:rPr>
              <a:t>Onlangs werd bij mij E.V.V.O. vastgestel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090680"/>
            <a:ext cx="870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0000"/>
                </a:solidFill>
                <a:latin typeface="Monotype Corsiva"/>
              </a:rPr>
              <a:t>(</a:t>
            </a:r>
            <a:r>
              <a:rPr b="1" lang="fr-FR" sz="3600" spc="-1" strike="noStrike">
                <a:solidFill>
                  <a:srgbClr val="0033cc"/>
                </a:solidFill>
                <a:latin typeface="Monotype Corsiva"/>
              </a:rPr>
              <a:t>E</a:t>
            </a:r>
            <a:r>
              <a:rPr b="1" lang="fr-FR" sz="3600" spc="-1" strike="noStrike">
                <a:solidFill>
                  <a:srgbClr val="cc0000"/>
                </a:solidFill>
                <a:latin typeface="Monotype Corsiva"/>
              </a:rPr>
              <a:t>fficiëntie </a:t>
            </a:r>
            <a:r>
              <a:rPr b="1" lang="fr-FR" sz="3600" spc="-1" strike="noStrike">
                <a:solidFill>
                  <a:srgbClr val="0033cc"/>
                </a:solidFill>
                <a:latin typeface="Monotype Corsiva"/>
              </a:rPr>
              <a:t>V</a:t>
            </a:r>
            <a:r>
              <a:rPr b="1" lang="fr-FR" sz="3600" spc="-1" strike="noStrike">
                <a:solidFill>
                  <a:srgbClr val="cc0000"/>
                </a:solidFill>
                <a:latin typeface="Monotype Corsiva"/>
              </a:rPr>
              <a:t>erlies </a:t>
            </a:r>
            <a:r>
              <a:rPr b="1" lang="fr-FR" sz="3600" spc="-1" strike="noStrike">
                <a:solidFill>
                  <a:srgbClr val="0033cc"/>
                </a:solidFill>
                <a:latin typeface="Monotype Corsiva"/>
              </a:rPr>
              <a:t>V</a:t>
            </a:r>
            <a:r>
              <a:rPr b="1" lang="fr-FR" sz="3600" spc="-1" strike="noStrike">
                <a:solidFill>
                  <a:srgbClr val="cc0000"/>
                </a:solidFill>
                <a:latin typeface="Monotype Corsiva"/>
              </a:rPr>
              <a:t>anwege </a:t>
            </a:r>
            <a:r>
              <a:rPr b="1" lang="fr-FR" sz="3600" spc="-1" strike="noStrike">
                <a:solidFill>
                  <a:srgbClr val="0033cc"/>
                </a:solidFill>
                <a:latin typeface="Monotype Corsiva"/>
              </a:rPr>
              <a:t>O</a:t>
            </a:r>
            <a:r>
              <a:rPr b="1" lang="fr-FR" sz="3600" spc="-1" strike="noStrike">
                <a:solidFill>
                  <a:srgbClr val="cc0000"/>
                </a:solidFill>
                <a:latin typeface="Monotype Corsiva"/>
              </a:rPr>
              <a:t>uderdom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3640" y="5444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Monotype Corsiva"/>
              </a:rPr>
              <a:t>Bijvoorbeeld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8200" y="4005360"/>
            <a:ext cx="15858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-868320" y="96480"/>
            <a:ext cx="615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Ik wil mijn auto nog eens wassen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1651680" y="641520"/>
            <a:ext cx="1106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Ik ga dus naar de garage, maar zie onderweg dat er nog p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op de keukentafel ligt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681200" y="1742400"/>
            <a:ext cx="115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Dus maar eerst de post bekijken, ‘t kon wel eens belangrijk zij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1972800" y="2338560"/>
            <a:ext cx="13005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Ik leg de autosleutels op de keukentafel, haal de rekeningen  uit de p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en gooi het reclamedrukwerk in de prullenmand maar ontdek dat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die  propvol is !!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7918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Dus ik leg de rekeningen op de tafel, om dan eerst, voor ik het vergeet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de prullenmand leeg te maken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1871280" y="5157720"/>
            <a:ext cx="1195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Maar de papiercontainer staat naast de brievenbus, en omdat i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toch die kant op moet, kan ik misschien beter eerst de reke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bekijken en de overschrijvingen regelen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03640" y="1150920"/>
            <a:ext cx="720720" cy="593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Gif Anime - Auto - Autos - Gifs Animes"/>
          <p:cNvPicPr/>
          <p:nvPr/>
        </p:nvPicPr>
        <p:blipFill>
          <a:blip r:embed="rId2"/>
          <a:stretch/>
        </p:blipFill>
        <p:spPr>
          <a:xfrm>
            <a:off x="4859280" y="0"/>
            <a:ext cx="1008000" cy="830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284720" y="458136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667640" y="5734080"/>
            <a:ext cx="808200" cy="934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7740720" y="1341360"/>
            <a:ext cx="1081080" cy="620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2771640" y="328464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-1574280" y="189000"/>
            <a:ext cx="1031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Ik neem mijn boekje met overschrijvingen en ik  stel v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dat er geen overschrijvingsformulieren meer inzitten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128240"/>
            <a:ext cx="89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Het andere boekje ligt in mijn bureau en daar vind ik naast het keyboard van de computer ook een halfvol blikje Cola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1649520" y="2421000"/>
            <a:ext cx="1126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Ik laat de overschrijvingen liggen, want eerst  moet ik die C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opdrinken voordat het per ongeluk over het toetsenbord valt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1373760" y="3429000"/>
            <a:ext cx="981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Maar de Cola is lauw geworden, dat is niet lekker, d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eerst in de koelkast zetten om af te koelen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1424520" y="4437000"/>
            <a:ext cx="1028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En terwijl ik met de Cola naar de keuken ga, zie ik dat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bloemen in de vaas dringend water nodig hebben !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52318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Ik zet de Cola op het aanrecht, waar ik per toeval mijn leesbril vi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(die ik sinds gistermiddag kwijt was.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804000" y="18446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148360" y="6021360"/>
            <a:ext cx="306360" cy="576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7769160" y="3357720"/>
            <a:ext cx="849240" cy="1047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7812000" y="458136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-410400"/>
            <a:ext cx="79567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Het beste is dat ik eerst de bloemen water</a:t>
            </a:r>
            <a:r>
              <a:rPr b="1" lang="fr-FR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geef voordat ik</a:t>
            </a:r>
            <a:r>
              <a:rPr b="0" lang="fr-FR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mijn bril terug leg op mijn burea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1671840" y="1108080"/>
            <a:ext cx="1121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Ik leg de bril terug op het aanrecht, vul een kan met water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daar zie ik de afstandsbediening van de TV liggen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1341720" y="2276640"/>
            <a:ext cx="8846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Iemand heeft die op de keukentafel laten liggen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1219320" y="3068280"/>
            <a:ext cx="950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Ik denk: als we vanavond TV willen kijken, zullen w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de afstandsbediening weer overal gaan zoeken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weet niemand nog dat die hier in de keuken lig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1479600" y="4581360"/>
            <a:ext cx="1022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Dus zal ik de afstandsbediening op de salontafel legg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maar nu eerst de bloemen water geven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1644840" y="5734080"/>
            <a:ext cx="10821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Ik geef de bloemen water, maar ik stoot dan tegen de deu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en mors een grote plas water op de vloer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439040" y="4797360"/>
            <a:ext cx="1704960" cy="2060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020000" y="1700280"/>
            <a:ext cx="792000" cy="761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80360" y="3213000"/>
            <a:ext cx="1584360" cy="1117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7667640" y="333360"/>
            <a:ext cx="14763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-1810800" y="0"/>
            <a:ext cx="12003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Ik leg de afstandsbediening terug op de keukentafel, ga een dwe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halen, en dweil de plas water op voor ik natte voeten krijg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1931400" y="981000"/>
            <a:ext cx="12538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Dan ga ik terug naar de hal en probeer me vruchteloos te herinne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waar ik nou eigenlijk mee bezig was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51160" y="2060640"/>
            <a:ext cx="318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0000"/>
                </a:solidFill>
                <a:latin typeface="Monotype Corsiva"/>
              </a:rPr>
              <a:t>En ‘s avonds :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813240" y="2851920"/>
            <a:ext cx="563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- de auto is niet gewasse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-1006920" y="3499560"/>
            <a:ext cx="696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- de rekeningen zijn niet betaal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1540080" y="4075920"/>
            <a:ext cx="1059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 </a:t>
            </a: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er staat lauwe Cola op het aanrecht in de keuke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1562760" y="4581720"/>
            <a:ext cx="9888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033cc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 </a:t>
            </a: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de bloemen hebben te weinig water gekreg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 </a:t>
            </a: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de prullenmand is niet geleegd</a:t>
            </a:r>
            <a:br>
              <a:rPr sz="3200"/>
            </a:b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.</a:t>
            </a:r>
            <a:br>
              <a:rPr sz="3200"/>
            </a:b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6021360"/>
            <a:ext cx="61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5229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681200" y="-59760"/>
            <a:ext cx="11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- waar is mijn boekje met overschrijvingen gebleven 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-1257480" y="619920"/>
            <a:ext cx="84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- ik vind de afstandsbediening niet me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1328040" y="1267560"/>
            <a:ext cx="90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- ik weet niet waar mijn leesbril is geble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-1345320" y="1915200"/>
            <a:ext cx="9021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- en ik vind mijn autosleutels nergens we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29284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Monotype Corsiva"/>
              </a:rPr>
              <a:t>En terwijl ik moet vaststellen dat ik vandaag ni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Monotype Corsiva"/>
              </a:rPr>
              <a:t>heb gedaan, begrijp ik dat toch niet goed, want ik wa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Monotype Corsiva"/>
              </a:rPr>
              <a:t>godganse dag druk bezig en ben nu‘bekaf !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1391040" y="4602600"/>
            <a:ext cx="11964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Ik heb een serieus probleem, en ik moet ergens hulp 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zoeken. Maar eerst nog mijn mail-box leegmaken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58960" y="6031800"/>
            <a:ext cx="73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0000"/>
                </a:solidFill>
                <a:latin typeface="Monotype Corsiva"/>
              </a:rPr>
              <a:t>Wil U me een dienst bewijzen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-1258560" y="795960"/>
            <a:ext cx="118026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000000"/>
                </a:solidFill>
                <a:latin typeface="Monotype Corsiva"/>
              </a:rPr>
              <a:t>Stuur dit bericht naar al uw kennissen, want ik wee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000000"/>
                </a:solidFill>
                <a:latin typeface="Monotype Corsiva"/>
              </a:rPr>
              <a:t>echt niet meer aan wie ik het reeds verzonden heb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-1330560" y="2083680"/>
            <a:ext cx="11786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Monotype Corsiva"/>
              </a:rPr>
              <a:t>Je moet niet lachen, want is het niet vandaa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Monotype Corsiva"/>
              </a:rPr>
              <a:t>dan ben je toch morgen aan de beurt!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96840" y="3498480"/>
            <a:ext cx="9313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0000"/>
                </a:solidFill>
                <a:latin typeface="Monotype Corsiva"/>
              </a:rPr>
              <a:t>OUDERDOM IS ONVERMIJDBAAR.</a:t>
            </a:r>
            <a:br>
              <a:rPr sz="4400"/>
            </a:br>
            <a:r>
              <a:rPr b="1" lang="fr-FR" sz="4400" spc="-1" strike="noStrike">
                <a:solidFill>
                  <a:srgbClr val="cc0000"/>
                </a:solidFill>
                <a:latin typeface="Monotype Corsiva"/>
              </a:rPr>
              <a:t>WIJSHEID IS EEN OPTIE</a:t>
            </a:r>
            <a:br>
              <a:rPr sz="4400"/>
            </a:br>
            <a:r>
              <a:rPr b="1" lang="fr-FR" sz="4400" spc="-1" strike="noStrike">
                <a:solidFill>
                  <a:srgbClr val="cc0000"/>
                </a:solidFill>
                <a:latin typeface="Monotype Corsiva"/>
              </a:rPr>
              <a:t> MAAR LACHEN OM ZICHZ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0000"/>
                </a:solidFill>
                <a:latin typeface="Monotype Corsiva"/>
              </a:rPr>
              <a:t> </a:t>
            </a:r>
            <a:r>
              <a:rPr b="1" lang="fr-FR" sz="4400" spc="-1" strike="noStrike">
                <a:solidFill>
                  <a:srgbClr val="cc0000"/>
                </a:solidFill>
                <a:latin typeface="Monotype Corsiva"/>
              </a:rPr>
              <a:t>IS EEN THERAPIE !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296720"/>
          </a:xfrm>
          <a:prstGeom prst="rect">
            <a:avLst/>
          </a:prstGeom>
          <a:solidFill>
            <a:srgbClr val="ffff99"/>
          </a:solidFill>
          <a:ln w="63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cc0000"/>
                </a:solidFill>
                <a:latin typeface="Arial"/>
              </a:rPr>
              <a:t>Maar met wie had ik ook weer het genoegen </a:t>
            </a:r>
            <a:r>
              <a:rPr b="1" lang="fr-FR" sz="54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635280" y="2133720"/>
            <a:ext cx="1770120" cy="3589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348000" y="638172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ahoma"/>
              </a:rPr>
              <a:t>Liefs een andere 40 + 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11280" y="6093000"/>
            <a:ext cx="41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Monotype Corsiva"/>
              </a:rPr>
              <a:t>Sterkte met je leeftijd, het gaat harder dan je denkt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21:50:02Z</dcterms:created>
  <dc:creator>LEMAIRE MICHEL</dc:creator>
  <dc:description>Uit het Vlaams "vertaald" door Thomas Bont</dc:description>
  <dc:language>en-US</dc:language>
  <cp:lastModifiedBy>Alex van Til</cp:lastModifiedBy>
  <dcterms:modified xsi:type="dcterms:W3CDTF">2007-05-08T16:05:47Z</dcterms:modified>
  <cp:revision>19</cp:revision>
  <dc:subject/>
  <dc:title>E.V.V.O.</dc:title>
</cp:coreProperties>
</file>