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8.gif" ContentType="image/gif"/>
  <Override PartName="/ppt/media/image17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13.gif" ContentType="image/gif"/>
  <Override PartName="/ppt/media/image2.gif" ContentType="image/gif"/>
  <Override PartName="/ppt/media/image3.gif" ContentType="image/gif"/>
  <Override PartName="/ppt/media/KennyG%20(musique)Melody.wav" ContentType="audio/x-wav"/>
  <Override PartName="/ppt/media/image16.gif" ContentType="image/gif"/>
  <Override PartName="/ppt/media/image4.png" ContentType="image/png"/>
  <Override PartName="/ppt/media/image1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852-4266-440A-B52E-259886ED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A7D-429B-4B89-B5AF-28D27CC0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40C-3B03-4B0C-A900-A352FEE4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CF8-0948-4139-9173-D627088D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0C91-30BC-4039-816C-FEE9B0C6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1F87-6DC6-49BF-A590-6E5B979A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13BA-27F6-47CB-A52E-B1AC3476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64EF-4659-47F4-A2AF-4D220EDA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BF7B-6570-4B02-9045-3CF077F6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E73E-011C-4F55-BB0E-E3F90F5F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A943-7FC4-4FCB-92ED-F48617B7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ACF-4198-4752-A7CF-445E0EDE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CC2B-0B37-40F2-BFAE-894EDA88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1FD9-1E5A-4580-9BF6-062D7062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97AB-1803-40A3-9059-A5A3188E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0CBD-4560-40AB-84B3-60589067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F802-7311-49FF-A802-AB779B4D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0893-1F99-404D-9810-A27AF127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0E87-2574-4C6D-96FD-C93770F5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CFC6-4B66-4997-8C15-CFEE8374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7AF8-9AB8-4DC1-940F-55742957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F095-97B0-404E-B74A-5D278902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DDF-B399-4EA9-A802-B51AEE2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A1B9-3CFF-4DCA-A515-3B58B45D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D099-7C40-4A6C-B3B8-05404912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9B2B-0EAB-4AEF-88F2-C40A41EE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664A-F55E-4591-81E9-3B624EA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0E3D0-DE1A-4806-917B-E02AFCF9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20B43-5F53-42EA-94B0-0BA6263F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35CC-4C68-47EB-99B8-ED8C8523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746-CD3E-47E8-899F-AC07307A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ADA-5473-4275-BB6E-183C11B4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C51-2EEF-4D99-8A4F-719519AC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328-0147-4FBA-8680-B3D60C0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438-6CAE-4345-9B83-E7518D31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1FF-05F3-40EA-A6FC-BF0EFF7E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BC36-FA1E-43AB-A45D-CD8A11F8F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d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d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def6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BDAB-3EAB-45F4-B9C9-3DB088A5EFED}" type="slidenum">
              <a:rPr b="1" lang="fr-FR" sz="2600" spc="-1" strike="noStrike">
                <a:solidFill>
                  <a:srgbClr val="def6f1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d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ef6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6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def6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9D9C-B8EE-4631-AD82-6F7E48DF3899}" type="slidenum">
              <a:rPr b="1" lang="fr-FR" sz="2600" spc="-1" strike="noStrike">
                <a:solidFill>
                  <a:srgbClr val="def6f1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KennyG%20(musique)Melody.wav"/><Relationship Id="rId5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hyperlink" Target="http://gifalapelle.site.voila.fr/objets/objets/140.gif" TargetMode="External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1341360"/>
            <a:ext cx="4967280" cy="1324080"/>
          </a:xfrm>
          <a:prstGeom prst="rect">
            <a:avLst/>
          </a:prstGeom>
          <a:solidFill>
            <a:srgbClr val="ffffff"/>
          </a:solidFill>
          <a:ln w="8892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Monotype Corsiva"/>
              </a:rPr>
              <a:t>E.V.V.O</a:t>
            </a: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651640" y="2478240"/>
            <a:ext cx="2592360" cy="2073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300720" y="5373720"/>
            <a:ext cx="218304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2063880" cy="3716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84720" y="5950080"/>
            <a:ext cx="259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Monotype Corsiva"/>
              </a:rPr>
              <a:t>(Rustig in je eigen tempo doorklikken)</a:t>
            </a:r>
            <a:r>
              <a:rPr b="0" lang="nl-NL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8720" cy="1143000"/>
          </a:xfrm>
          <a:prstGeom prst="rect">
            <a:avLst/>
          </a:prstGeom>
          <a:solidFill>
            <a:srgbClr val="ffff99"/>
          </a:solidFill>
          <a:ln w="889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Wat is  </a:t>
            </a:r>
            <a:r>
              <a:rPr b="1" lang="fr-FR" sz="4800" spc="-1" strike="noStrike">
                <a:solidFill>
                  <a:srgbClr val="cc0000"/>
                </a:solidFill>
                <a:latin typeface="Monotype Corsiva"/>
              </a:rPr>
              <a:t>E</a:t>
            </a: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800" spc="-1" strike="noStrike">
                <a:solidFill>
                  <a:srgbClr val="cc0000"/>
                </a:solidFill>
                <a:latin typeface="Monotype Corsiva"/>
              </a:rPr>
              <a:t>V</a:t>
            </a: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800" spc="-1" strike="noStrike">
                <a:solidFill>
                  <a:srgbClr val="cc0000"/>
                </a:solidFill>
                <a:latin typeface="Monotype Corsiva"/>
              </a:rPr>
              <a:t>V</a:t>
            </a: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800" spc="-1" strike="noStrike">
                <a:solidFill>
                  <a:srgbClr val="cc0000"/>
                </a:solidFill>
                <a:latin typeface="Monotype Corsiva"/>
              </a:rPr>
              <a:t>O</a:t>
            </a: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.?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35612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Ik vermoed dat veel veertigplusse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zich hierin zullen herkennen … zoals ik zelf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204840" y="3357000"/>
            <a:ext cx="97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Monotype Corsiva"/>
              </a:rPr>
              <a:t>Onlangs werd bij mij E.V.V.O. vastgestel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09068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(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E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fficiëntie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V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erlies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V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anwege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O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uderdom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5444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Bijvoorbeeld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8200" y="4005360"/>
            <a:ext cx="1585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868320" y="96480"/>
            <a:ext cx="615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wil mijn auto nog eens wass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651680" y="641520"/>
            <a:ext cx="1106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ga dus naar de garage, maar zie onderweg dat er nog p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op de keukentafel lig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681200" y="1742400"/>
            <a:ext cx="11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us maar eerst de post bekijken, ‘t kon wel eens belangrijk zij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972800" y="2338560"/>
            <a:ext cx="1300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leg de autosleutels op de keukentafel, haal de rekeningen  uit de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en gooi het reclamedrukwerk in de prullenmand maar ontdek dat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ie  propvol is !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7918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us ik leg de rekeningen op de tafel, om dan eerst, voor ik het vergeet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e prullenmand leeg te mak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871280" y="5157720"/>
            <a:ext cx="119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Maar de papiercontainer staat naast de brievenbus, en omdat 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toch die kant op moet, kan ik misschien beter eerst de rek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bekijken en de overschrijvingen regel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03640" y="1150920"/>
            <a:ext cx="720720" cy="59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Gif Anime - Auto - Autos - Gifs Animes"/>
          <p:cNvPicPr/>
          <p:nvPr/>
        </p:nvPicPr>
        <p:blipFill>
          <a:blip r:embed="rId2"/>
          <a:stretch/>
        </p:blipFill>
        <p:spPr>
          <a:xfrm>
            <a:off x="4859280" y="0"/>
            <a:ext cx="1008000" cy="830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284720" y="458136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667640" y="5734080"/>
            <a:ext cx="808200" cy="93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740720" y="1341360"/>
            <a:ext cx="1081080" cy="620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2771640" y="3284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1574280" y="189000"/>
            <a:ext cx="103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neem mijn boekje met overschrijvingen en ik  stel v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at er geen overschrijvingsformulieren meer inzitt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2824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Het andere boekje ligt in mijn bureau en daar vind ik naast het keyboard van de computer ook een halfvol blikje Cola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649520" y="2421000"/>
            <a:ext cx="1126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laat de overschrijvingen liggen, want eerst  moet ik die 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opdrinken voordat het per ongeluk over het toetsenbord val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1373760" y="3429000"/>
            <a:ext cx="981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Maar de Cola is lauw geworden, dat is niet lekker, d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eerst in de koelkast zetten om af te koel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1424520" y="4437000"/>
            <a:ext cx="1028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En terwijl ik met de Cola naar de keuken ga, zie ik dat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bloemen in de vaas dringend water nodig hebben 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2318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zet de Cola op het aanrecht, waar ik per toeval mijn leesbril vi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(die ik sinds gistermiddag kwijt was.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04000" y="184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48360" y="6021360"/>
            <a:ext cx="30636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769160" y="3357720"/>
            <a:ext cx="849240" cy="1047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812000" y="4581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-410400"/>
            <a:ext cx="7956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Het beste is dat ik eerst de bloemen water</a:t>
            </a:r>
            <a:r>
              <a:rPr b="1" lang="fr-FR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geef voordat ik</a:t>
            </a:r>
            <a:r>
              <a:rPr b="0" lang="fr-FR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mijn bril terug leg op mijn bur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671840" y="1108080"/>
            <a:ext cx="1121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leg de bril terug op het aanrecht, vul een kan met water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aar zie ik de afstandsbediening van de TV ligg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341720" y="2276640"/>
            <a:ext cx="884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emand heeft die op de keukentafel laten ligg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219320" y="3068280"/>
            <a:ext cx="950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denk: als we vanavond TV willen kijken, zullen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e afstandsbediening weer overal gaan zoek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weet niemand nog dat die hier in de keuken li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479600" y="4581360"/>
            <a:ext cx="1022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us zal ik de afstandsbediening op de salontafel legg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maar nu eerst de bloemen water geve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644840" y="5734080"/>
            <a:ext cx="10821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geef de bloemen water, maar ik stoot dan tegen de deu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en mors een grote plas water op de vloe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439040" y="4797360"/>
            <a:ext cx="1704960" cy="2060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020000" y="1700280"/>
            <a:ext cx="792000" cy="761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3213000"/>
            <a:ext cx="1584360" cy="1117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667640" y="333360"/>
            <a:ext cx="14763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1810800" y="0"/>
            <a:ext cx="1200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Ik leg de afstandsbediening terug op de keukentafel, ga een dwe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halen, en dweil de plas water op voor ik natte voeten krijg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1931400" y="981000"/>
            <a:ext cx="1253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Dan ga ik terug naar de hal en probeer me vruchteloos te herinn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waar ik nou eigenlijk mee bezig wa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51160" y="2060640"/>
            <a:ext cx="318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En ‘s avonds 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813240" y="285192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de auto is niet gewass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006920" y="3499560"/>
            <a:ext cx="69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de rekeningen zijn niet betaal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1540080" y="4075920"/>
            <a:ext cx="105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er staat lauwe Cola op het aanrecht in de keuk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1562760" y="4581720"/>
            <a:ext cx="9888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33cc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de bloemen hebben te weinig water gekre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de prullenmand is niet geleegd</a:t>
            </a:r>
            <a:br>
              <a:rPr sz="3200"/>
            </a:b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.</a:t>
            </a:r>
            <a:br>
              <a:rPr sz="3200"/>
            </a:b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6021360"/>
            <a:ext cx="61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522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681200" y="-59760"/>
            <a:ext cx="11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waar is mijn boekje met overschrijvingen gebleven 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257480" y="619920"/>
            <a:ext cx="84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ik vind de afstandsbediening niet me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328040" y="1267560"/>
            <a:ext cx="90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ik weet niet waar mijn leesbril is geble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1345320" y="1915200"/>
            <a:ext cx="902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 en ik vind mijn autosleutels nergens w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2928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En terwijl ik moet vaststellen dat ik vandaag ni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heb gedaan, begrijp ik dat toch niet goed, want ik wa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godganse dag druk bezig en ben nu‘bekaf 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1391040" y="4602600"/>
            <a:ext cx="1196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Ik heb een serieus probleem, en ik moet ergens hulp 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zoeken. Maar eerst nog mijn mail-box leegmaken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8960" y="603180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Wil U me een dienst bewijzen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1258560" y="795960"/>
            <a:ext cx="11802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0000"/>
                </a:solidFill>
                <a:latin typeface="Monotype Corsiva"/>
              </a:rPr>
              <a:t>Stuur dit bericht naar al uw kennissen, want ik we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0000"/>
                </a:solidFill>
                <a:latin typeface="Monotype Corsiva"/>
              </a:rPr>
              <a:t>echt niet meer aan wie ik het reeds verzonden heb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330560" y="2083680"/>
            <a:ext cx="1178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Je moet niet lachen, want is het niet vandaa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dan ben je toch morgen aan de beurt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96840" y="3498480"/>
            <a:ext cx="931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OUDERDOM IS ONVERMIJDBAAR.</a:t>
            </a:r>
            <a:br>
              <a:rPr sz="4400"/>
            </a:b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WIJSHEID IS EEN OPTIE</a:t>
            </a:r>
            <a:br>
              <a:rPr sz="4400"/>
            </a:b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 MAAR LACHEN OM ZICHZ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IS EEN THERAPIE 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296720"/>
          </a:xfrm>
          <a:prstGeom prst="rect">
            <a:avLst/>
          </a:prstGeom>
          <a:solidFill>
            <a:srgbClr val="ffff99"/>
          </a:solidFill>
          <a:ln w="63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0000"/>
                </a:solidFill>
                <a:latin typeface="Arial"/>
              </a:rPr>
              <a:t>Maar met wie had ik ook weer het genoegen </a:t>
            </a:r>
            <a:r>
              <a:rPr b="1" lang="fr-FR" sz="5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1770120" cy="3589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348000" y="638172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ahoma"/>
              </a:rPr>
              <a:t>Liefs een andere 40 + 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609300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Monotype Corsiva"/>
              </a:rPr>
              <a:t>Sterkte met je leeftijd, het gaat harder dan je denkt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1:50:02Z</dcterms:created>
  <dc:creator>LEMAIRE MICHEL</dc:creator>
  <dc:description>Uit het Vlaams "vertaald" door Thomas Bont</dc:description>
  <dc:language>en-US</dc:language>
  <cp:lastModifiedBy>Alex van Til</cp:lastModifiedBy>
  <dcterms:modified xsi:type="dcterms:W3CDTF">2007-05-08T16:05:47Z</dcterms:modified>
  <cp:revision>19</cp:revision>
  <dc:subject/>
  <dc:title>E.V.V.O.</dc:title>
</cp:coreProperties>
</file>